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B95-FF1F-43F4-A481-D676987C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131-7C7C-4862-91A4-DB798D28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0A1-93AA-45E2-86FB-2876D091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4D0-E3EB-4B9B-9F20-03E3BC49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6E6-8CB1-43FD-ABEA-1E0A6883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DE9-EAD6-44EC-9ED9-23F45E7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E51-892F-4513-A73F-5E1879C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EDE-AED4-4D5C-B3BB-CF66918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0AB-1D00-4B08-AB18-76ACFBB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E72-7240-4225-B01E-8CA17FE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D4C-F7A0-4456-82C7-6D56161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E37-5410-4121-B4AB-856C179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73A-8C32-4360-9C27-D58730CFA9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116-D89B-4C60-9EF1-D2853A28B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865080"/>
            <a:ext cx="7632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8000" spc="-1" strike="noStrike">
                <a:solidFill>
                  <a:srgbClr val="ff6600"/>
                </a:solidFill>
                <a:latin typeface="隶书"/>
                <a:ea typeface="隶书"/>
              </a:rPr>
              <a:t>让好习惯陪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隶书"/>
                <a:ea typeface="隶书"/>
              </a:rPr>
              <a:t>    </a:t>
            </a:r>
            <a:r>
              <a:rPr b="1" lang="zh-CN" sz="8000" spc="-1" strike="noStrike">
                <a:solidFill>
                  <a:srgbClr val="ff6600"/>
                </a:solidFill>
                <a:latin typeface="隶书"/>
                <a:ea typeface="隶书"/>
              </a:rPr>
              <a:t>每一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4797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高二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学法指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C84-01F0-4AA1-890C-D8D5975C5B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78D87-139F-487A-88FB-6C9C05DA77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尊重与欣赏老师的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7993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学生同时面对的各学科教师，长短不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所难免。所以学生要学习好，除了我们老师努力提高能力水平，适应学生外，学生更要尊重老师，适应老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72D-1FDD-4AB5-8354-9835868D74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172C1-7E88-4ABF-98CB-991AADDAB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并学会欣赏自己的老师。不同层次的老师，学生用不同的方式，眼睛向内、提高自我的方式去适应，与老师共同进步。从现在适应老师，长大了适应社会。不会稍不如意就埋怨环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3F2-4D12-4F15-AA80-4F031E2DB2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151DE-E6D8-46AB-9F38-C8D2D62C2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692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专心上课的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714680"/>
            <a:ext cx="78487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教与学应该同步，应该和谐，因此学生在课堂上要集中精神，专心听教师讲课，认真听同学发言，抓住重点、难点、疑点听，边认真听边积极思考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A1E-BF63-42F9-B177-D0FEB1A4A09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7A70D-932A-438C-B93C-EBB5725D34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6920" y="836640"/>
            <a:ext cx="763272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哪怕是你已经超前学过了，也还是要认真听，要把教师的思路、其他同学的思路与自己的思路进行对比分析，找出解决问题的最佳途径。并在这过程中，尽量多理解记忆一些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E7B-719D-4EC1-ABB6-1E79AF2B89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C15E2-FE96-4E8B-81BA-C79FF3A499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善于提问的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积极质疑问题，带着知识疑点问老师，问同学。学问、学问，学习就要开口问，不懂装懂最终害自己，提问是主动学习的表现，能提出问题的学生是学习能力最强的学生，是具有创新精神的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152720" cy="8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5BB-91AA-41AF-8C0C-006EA4A467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73F03-4D9B-4BCC-B710-3BDB31E53B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自学预习的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是获取知识的主要途径。就学习过程而言，教师只是引路人，学生是学习的真正主体，学习中的大量问题，主要靠自己去解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B33-D905-42CC-825B-0CD63DA52E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D2062-DCA7-4D71-9E01-38BB25A94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提前预习，是培养自主学习的精神和自学能力，提高听课效率的重要途径。提前预习教材，自主查找资料，研究新知识的要点重点，发现疑难，从而可以在课堂内重点解决，掌握听课的主动权，使听课具有针对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81D-519B-4FB5-B066-4109AD6652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1528A-D922-4B14-8014-200AE01AD0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独立作业的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作业是一种学习和积累的过程。做作业的目的是巩固所学的知识，是培养独立思考能力，不是为了交教师的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F26-7AB6-4A9C-938E-59E95A42EF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B0921-7C17-49B1-900C-54E5CDABD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同学简单的是会而不对，复杂的对而不全，这些不良习惯严重的影响了学习效果。所以我们要重视做作业，在做习题时要认真思考，总结概念、原理的运用方法、解题的思路、并且尽量多记忆一些有用的中间结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42F-86CF-49E9-8661-D240F6E306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C0EBB-0B91-4C15-88FA-3EC2EC1500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般说来，习题做完之后，要从五个层次反思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怎样做出来的？想解题采用的方法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为什么这样做？想解题依据的原理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为什么想到这种方法？想解题的思路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无其它方法？哪种方法更好？想多种途径，培养求异思维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练后反思的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742-146B-4D9A-B2D6-2EF4D9965A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FEDA2-B0F1-4FEF-A7AB-7518D9E47CB2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4046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行为养成习惯，习惯形成性格，性格决定命运，可见，良好习惯的养成至关重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285264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说一下自己身上的好习惯和坏习惯？你还知道日常生活和学习中有哪些好的和坏习惯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A25-7002-4B46-9383-A0C7ED57FE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6E641-4EAC-426D-9CE4-355DD14843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能否变通一下而变成另一习题？想一题多变，促使思维发散。当然，如果发生错解，更应进行反思：错解根源是什么？解答同类试题应注意哪些事项？如何克服常犯错误？“吃一堑，长一智”，不断完善自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C24-2D71-4F29-8DCB-56F6BF72C8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06CDC-4FD5-4DC6-B44F-1FEE3FAC79F6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复习归纳的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就是通过对知识，对解决问题的思路进行提炼，进行归纳整理，使零碎的知识，分散的记忆得到一个串联，从而学生的知识系统化、条理化、重点化，避免前后知识的脱离与割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C49-E55A-44C3-9C7A-77701C6455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5F676-3BFA-44F2-8AD3-647E3965C7AA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每天尽量把当天的东西都复习一遍，每周再做总结，一章学完后再总的复习一下。对记忆性知识的复习，每一遍的用时不需多，但是反复的遍数要多，以加深印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CB3-EBDE-4303-BEF5-BDDB1AAFCB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B2B8F-A2F2-4225-90B4-93CA01D62E4D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每章每节的知识是分散的、孤立的，要想形成知识体系，课后必须有小结归纳。对所学知识进行概括，抓住应掌握的重点和关键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BE6-CFBF-4446-AD08-72D0E5305A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3EDAC-E2E6-4D59-8B07-058850FDA1BF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比理解易混淆的概念。每学习一个专题，要把分散在各章中的知识系统化、规律化、结构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070-6472-45AD-BE45-122293B7AD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1D46B-C733-4A79-B4AC-E710D78E61C8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客观评价的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生应养成正确对待自己和他人，正确对待成功与挫折，正确对待考试分数的好习惯。若学生能客观地评价自己和同学在学习活动中的表现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3E7-6E27-409D-9B87-1B6653A1A5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4405E-D024-4D8C-B619-3101931C6A98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一种健康心理的体现。只有客观地评价自己、评价他人，才能评出自信，评出不足，从而达到正视自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596-1D01-4FEE-8106-CAB33CD60CA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B8F54-C8F8-4D01-A040-C4A84DD64E15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59280" y="2636640"/>
            <a:ext cx="289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D2D-FD36-4D79-A96A-679C7A2192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03C1D-8D4D-4373-9550-19C499068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79640" y="126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2708280"/>
            <a:ext cx="3456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1" action="ppaction://hlinksldjump"/>
              </a:rPr>
              <a:t>上好七节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4076640"/>
            <a:ext cx="4680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 action="ppaction://hlinksldjump"/>
              </a:rPr>
              <a:t>用好自己的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1557360"/>
            <a:ext cx="3600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3" action="ppaction://hlinksldjump"/>
              </a:rPr>
              <a:t>生活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3573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332000" y="2133720"/>
            <a:ext cx="6624720" cy="63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258920" y="3645000"/>
            <a:ext cx="6697800" cy="57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385-67EC-43E5-A7BF-0970A4A6E4B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97B40-5505-42B7-9E27-9F78CBBC4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692280"/>
            <a:ext cx="856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定要吃早餐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早餐没有吃饱，早餐的营养不够使人的血糖低于正常供给，对大脑的营养供应不足，久之对大脑有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造成营养不良、贫血、抵抗力降低，而且会伤害肠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按此在新窗口浏览图片"/>
          <p:cNvPicPr/>
          <p:nvPr/>
        </p:nvPicPr>
        <p:blipFill>
          <a:blip r:embed="rId1"/>
          <a:stretch/>
        </p:blipFill>
        <p:spPr>
          <a:xfrm>
            <a:off x="468360" y="4869000"/>
            <a:ext cx="8136000" cy="45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A1B-26F6-4BC0-98F9-65C3E56B67D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9362A-0CAB-496B-9544-F0D0DBE065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981000"/>
            <a:ext cx="75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人感到疲倦、胃部不适和头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于我们学生而言连续的三节主课早就耗完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般同学在第二节课时就感到饥饿，这样就无法高效率的学习，就会影响学生效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何况我们还要坚持上四节课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525-6EA0-48DF-9281-A2396150B15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1B77F-1A58-4E2F-9AD0-9AE8A3A418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7640" y="69228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吃早餐同时要吃好早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700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理的早餐食品应该是富含水分和营养。牛奶、豆浆符合上述要求，还应加上其他谷类食品，谷类食品能对牛奶、豆浆中营养素的利用率。还要有适量的蛋白质和脂肪、鸡蛋、豆制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04B-3FCC-42F6-895A-FF1D154C28B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AEA5F-731C-4BFD-B396-D2C8A5385C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87280" y="1125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773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饼干和曲奇属于十大垃圾食品，它们在制作过程中一般都会加热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0℃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时就会产生丙烯酰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在长期低剂量食用含丙烯酰胺的食品后，会出现嗜睡、情绪与记忆改变、产生幻觉和震颤等症状，并伴随末梢神经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6028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很多同学把饼干当成早餐，这是不科学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6BC-7BBD-4DB1-BADD-1F0D0ABD6E7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38C94-289D-4882-A5AF-DC76C79BC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189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有一些大家要</a:t>
            </a:r>
            <a:r>
              <a:rPr b="1" i="1" lang="zh-CN" sz="4000" spc="-1" strike="noStrike">
                <a:solidFill>
                  <a:srgbClr val="ff00ff"/>
                </a:solidFill>
                <a:latin typeface="Arial"/>
              </a:rPr>
              <a:t>注意的坏习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影响我们的健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86064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长期饱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导致脑动脉硬化、脑早衰和智力减退等现象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229360"/>
            <a:ext cx="8064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常吃宵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会得胃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胃得不到休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41300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不睡午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下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肝脏休息，血液中溶入一些糖原，我们感觉有些疲劳，要适当休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8208720" cy="51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1616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41616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416160" cy="6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69C-DE0F-4E61-A2F3-4D6D8DC4093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825A4-E5E1-464D-AAE3-EFC67CEB92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47628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睡眠不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会变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天须八小时睡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午睡习惯较不会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9162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睡前不刷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∶晚上睡前经常不刷牙者，特别容易患感冒和肺炎，容易造成牙齿腐坏、牙龈出血、牙周病，乃至牙齿脱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睡前不洗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∶睡前不洗脸面部皮肤上的污垢会刺激皮肤、堵塞腺体或毛孔，损害皮肤健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021360"/>
            <a:ext cx="79200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5097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1844640"/>
            <a:ext cx="596880" cy="7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0" y="4292640"/>
            <a:ext cx="488880" cy="6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周璐制作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52A-332D-4FFB-88C6-273E18F5868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E9408-33C0-41C8-8282-4006722F8A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3-11T10:14:42Z</dcterms:created>
  <dc:creator>zl</dc:creator>
  <dc:description/>
  <dc:language>en-US</dc:language>
  <cp:lastModifiedBy>User</cp:lastModifiedBy>
  <dcterms:modified xsi:type="dcterms:W3CDTF">2013-04-13T14:31:48Z</dcterms:modified>
  <cp:revision>13</cp:revision>
  <dc:subject/>
  <dc:title>幻灯片 1</dc:title>
</cp:coreProperties>
</file>